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7CC7-A97D-4A86-9B6B-5A0E361C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344-C532-40B2-90F9-95564D2F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C5A75-C0E7-4148-B11E-C1FB582D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B637D2-19CF-4653-9D70-C58AF112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FAC29-D856-42E8-858C-AF86E6A0F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4D086-F8BA-4613-94A6-EBB127D9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1BC7D-228C-4278-9FCA-69C8B8F2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017D4-ED99-42D9-9793-542CDA0F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8B5C2-D484-4FFD-BB1B-A4160552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F29F5-9324-4004-B1A9-54496DA5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13A73-26DA-4B1A-8B9D-33FB89F0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98C8A-1293-44AB-8768-8FCF355D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BB1-F8CA-4E38-8DBA-5483911D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206BB-526A-4512-9BA0-103B2F97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F6108-816C-4E65-B1C6-D4C6947C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D427B-4A6A-4D2B-AC3E-CB59C8F9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2D679-D439-4336-84BB-660ABD62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AAA1A-6AA5-4CE6-AEFF-3074001E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5FBA8-7BC3-4DD0-8C3A-1F51E94D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AEFF0-457A-4AF1-844C-55245807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D785B-4140-43C9-9070-F63C880E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BB54E8-7FE3-447C-BD70-CE82B1BA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26665-9E44-4302-84A6-1B927FFF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9BC4-D46B-477A-94B3-1F00D103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EB9F4-1FF8-43C6-B292-D1535B1B7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A01A0-ABB4-478F-AE0B-8DF388FC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CC1E1-6786-497A-A606-8E0296A8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7B1D7-9857-4338-A7F4-D3CED687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B2823-9814-4C61-96AD-7D25E52F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22232-AFD9-4811-85D7-03D292BD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7D37E-240C-4044-86D5-E3B8A854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64674-6CF2-4038-AB1F-302A3602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EB6E2-24FB-4508-A3D3-82809A0C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43AD0-A69D-4598-9493-8F50FDB4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FDB6-907F-4CC2-B922-0BDD6EF6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511C5-99E0-4967-9A54-057DC292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C3239-B2C4-4A7D-B4EE-AEF6A3E3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66FAF-F075-4355-ABA0-7C6B955F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7D9D3-8A02-49D6-BE32-D99C8197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B7E6B-7B9E-4CFF-A4CD-E46123DD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CE43E-DFF6-461E-9174-08751BCC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6DFCF-E52D-4C51-AC71-0D4E3869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59BBD-E9FC-4C09-B1AF-A427C8AF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328C6-8F54-4B54-8AB8-5D70D94B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38672-AECF-42A3-8988-BBE3C6B1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F014-9EC2-410B-8362-AE2B93B9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C8A66-2981-4B7B-B97F-9CA5D39E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1720A-1286-49F7-992F-957F7202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086B38-D439-4484-98D1-097AB9E3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5CE77-6F51-4FC2-A406-AF0C054C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40F84-2C9A-4CD2-A13C-B3233EFA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3E7FB-7A44-4564-B327-7FB64C5A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773AD-4099-4A19-ADC0-3588F39E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A602C-4B6D-47DD-8208-DE5F26D6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90151-0843-4F4F-9B23-5EB4A023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7543B-DDED-4971-9F2A-23A7B977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6107-E30B-443D-B256-D92CFC8B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D2C64-6553-4E7B-9851-DDAD1B64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C5C0C-6BBF-4C94-A083-6FE162CA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EC9EE-6BDD-438E-9F2C-E2A0ACDA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588B1-22B1-46D9-8CE4-572D440A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8990A-4562-4214-A225-373BF8D6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56DDB-C0AD-4470-B790-425D4EF9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4265C-C4D0-4249-B83F-4A00913B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1434D-CFF8-4232-B883-DE46A55B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81C78-73A7-4FA4-B835-30D6C434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CD1C7-ECF4-43E2-BAAA-639C45B0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586F-A0F3-485E-B8DB-CA9F393C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D93CB-8500-4DCB-9731-B7FD3EC0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6643E5-8EDC-426F-961C-CE39FA2E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26B945-BE9F-420C-A243-84B1EE6B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150857-7A79-4321-9EE1-B1BF594D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0B044C-DD8C-4005-AABB-965900D7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7A6BE-C1AD-4ACB-AC1D-1D472EE7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3ABDE2-BEA1-4A72-A65C-5076E208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AE3B4-C823-4118-AE74-647116A1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980C9-166C-4E5B-8B8A-1C8583A1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249971-E106-4962-BBA4-BBDA1E04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AEE7-3EB2-49BD-B585-DD680533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7C067-D2DC-4627-ADB1-11B4357D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FBDF3-90B1-4AEE-AA66-6F5541FE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D6DE28-C4CB-4A2C-B88F-4DA4E505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A1CE10-42DB-4A1B-94EB-0B5B07FB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E4223-4FEA-438D-8633-676E7D3F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384A0-A93B-4533-86F6-0FBDFAD8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DF1AE-BC05-43E4-AE63-3AE1AD81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61001-A68A-4D41-B520-392E18B1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C1B0F0-2C27-4674-9E78-ED759DEF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638954-F7DE-4516-8D53-BAB729DB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2F5F-554C-4724-AB15-B2C304A5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6293FC-3743-47B0-99AC-E0B239CD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72843-252E-49F3-B884-620E1F65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F36563-E751-441B-AFB1-4BE7461A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1113ED-3499-4456-8493-98201E8D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5D3326-3B59-431B-9585-A4BD2C96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5DC1F0-4980-401B-AABD-D80E8462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71F2CF-0F39-419A-A559-A3B08DBB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3204D7-37D6-4B75-8AEC-3D707831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6C87BE-4DAF-4B9D-938C-06D5BD3C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025414-0285-4534-B6E5-0F8E5716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EAC4-99D9-4747-8268-51504A0A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1401A-7A56-4FC5-86C3-0F1CD4D7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DE71A-C959-43C7-8E2F-00E2D23C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A52DE-E8F6-4F6F-A574-6E46620CE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91DB6A-9C65-41A4-8B4D-41E62FCC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54620-BF75-432B-BCCA-2329265C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C15B16-7BC3-4157-898A-12D9F31F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B80A5C-2E34-4833-8D65-98E5660D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3736D-8CA0-4C2A-A7DA-FA9F428D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4346E2-EDDF-4C8F-80D3-1143F332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F0256A-B550-403C-8212-7C8C3A04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C211-ACE4-48BD-81F1-A0D8C624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51CB-D627-4DD5-AAE1-11C7E249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7B891-CCB4-490B-B0DE-A65AC57A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EAAF58-910A-4362-9A24-1887F42D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72446C-E9A1-4E6B-B33D-63B29408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0192FD-2B97-4352-B080-37B1486A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2C15F2-2C7A-4348-ADFD-180B83A8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830D04-FD35-4B3E-8B65-71CDC087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74EAFA-D6BF-45D1-99E4-BF270076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C4A67-C58F-4DFB-9CA9-D00494AF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228EF-C581-45CC-8791-FD54ADDE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FAFEFA-0A62-4BFE-94BE-369FB2DD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6BD7-58E5-4FC8-9B42-0EAD87BF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EDA9EB-C14E-4EA6-BC49-D916CFB8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C82AFB-90C0-4DA0-AD11-453CFDC1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2C3077-42F0-4C73-8975-1955998A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594D12-4BE6-4D53-A435-31620DFC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B35378-0B31-4AA9-B040-A05D757C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06C43-4AE7-4DCB-9C5C-C5E3E562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0AFDDC-137E-4FD5-85F7-030A386D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9C3060-4CFC-4024-8A8A-EF14A509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EEB4D0-29A3-4BB3-A626-5DFB36D0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13A79D-0D4F-49A1-88FE-826195EF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EAA7-8BA1-479A-AA61-7AA09F5B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5D45CE-AC69-4CCC-A937-3D45255E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673397-272C-4225-ADEC-66FF9B23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18875C-6B2C-4E02-94BB-72400805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93197F-A463-4C20-A6C2-B71F4D1E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780DFC-C105-48D8-9DD2-D230167F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D26033-B07A-417C-9A82-A66AD04C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64AC2-F050-4D6A-8E0F-B078CF70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01A353-23D0-43B8-9529-98261C06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0EF910-1185-4336-8C23-CE88C90FD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C5B422-C083-4A96-809F-F6C2214B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B417-3AA9-4824-864B-EC658A63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CB921F-CD62-40BD-8980-ADB33E6E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176A75-F042-49EE-A492-625064E4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9CCFD9-C952-41BE-9BF9-07103FB0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FAA9E0-5E11-4721-A434-5C20DD9F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05C9FF-2C22-43E0-9193-126C7714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032AF-34D8-4847-BF0A-46757FC9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B3FECF-6808-46F8-9248-FD2F3AAD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23FCCA-67FD-4233-B80E-FDEA981A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C99AF-3FCF-4B0D-8200-08486121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3ADD9B-628C-4DDB-9EE4-14187344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660E-5DBE-40BB-8824-B0868941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44DDB0-0241-46C9-852A-AF26C079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BADAFC-7FB2-4F93-A2A7-9D33D76C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C1302A-62F0-4BDB-8B25-5C0870E8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3EBFE0-E329-499D-8651-53A578E8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8F61DB-6007-4045-9370-F4937605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80F5CB-B320-443A-9A54-F34F79DF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80DCE1-8F75-4293-AFA0-A0A34E90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A2AE07-2E9C-45EB-B4BE-6CE4E0D6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4F6614-B104-41A9-A7BB-5F3BC68B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4FD3F7-E426-4BCF-B684-9C2B5B53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CFDA1-E786-465F-942B-A8B1D60E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627E36-DA1B-4BBB-B1B2-C37DAA15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9B504A-870F-4E8F-AF0A-4D5C41440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36F639-EB91-4102-AF6C-20067D90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93EB50-FE0C-4473-9099-44227508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AAFCC1-001C-4ADF-8FEE-55335A68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C43BD5-5BC8-443C-AAA1-391CFDAD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D4F76C-899A-45BA-B2F5-A3D2C701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9D05DD-D683-44F2-86DE-DC13C242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A24229-1F65-48E2-9EA8-C8093E10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DC33FD-4DCD-4A50-8A24-42B45384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385A8-0847-4938-AD3B-DB0426E1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0D1AE6-8F5B-4E6B-A355-FE63639B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BFE5E0-9845-4E45-A3CB-5BCF2E2A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04B669-56D1-4BED-9141-B9029714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D8D342-4581-44D8-84A1-F6EF30B0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30A7BD-BF3F-4C69-B3CB-EC0C5B6C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EFF7F7-F2A4-454C-8EEA-B68A63D5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A17BF0-C00C-4042-A012-4D18D345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8AF7AF-7F82-4283-9E7A-C5C9EF9E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79AA59-5592-43AB-A226-50C9D189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B3EF11-8196-455F-A225-1DAEA004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26A45-75DC-410A-91DB-6533EAD0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42605A-9DED-4EFC-B2D2-995D1272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5870E6-4E8B-4FF6-A605-3D2C12E2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EEA6B1-D729-48E4-A3C7-ECF4206E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8DCA89-E2B6-4137-B345-B3323011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367E03-98B4-4DDA-B4F6-8F0B4209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573F4D-D3E8-4E3D-B43D-2DC9CF43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B8614B-7AF7-4F41-88B9-D7BED218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988C7-3197-4263-A15C-C24A56FD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1365-17C6-4924-8012-1B0878C2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22B-67AC-4295-B16C-573F0BD9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41C6B-60F0-43FE-8CBB-25145E54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C846D-8630-4FA6-A133-941E285F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51AED-773B-4802-BE08-E47DAA02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ABC7F-EAB0-4FF6-B25B-38D2B732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B9AE1-9A5D-4035-9C27-690A251C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AF63D-109E-4E6F-8305-3E6CF2A1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D83F-BB54-4609-9FDA-1D8E86A9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9021C-9672-4E17-8FE7-ABE9E7DF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32699-FC59-4BF7-865B-A7F2B771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05A8-A75A-448A-9B4C-8CDA5452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BB7-C9AB-4040-ABC2-0159D89B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9BED2-F9B9-4FCB-B3D0-455EFA0D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21F6C-2273-4001-83A7-A6D4D87F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EA1C0-4FB3-46E9-BCED-296470EA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85102-E1BB-4B72-917A-FDE1D680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848D0-5C4C-4783-87EC-F9A7B0AE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FBA80-DC39-4D15-A8FD-2ED1BB6A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87548-7BBC-46C5-B9DE-EF0D42EE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B4332-932A-4425-9CAC-4F7A845A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947BA-ED58-49C4-9645-B310E459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80362-F92F-4C4A-9F43-01CD12EB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9EC-3EEB-45F6-95DE-AF1C33A8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8D326-A113-43BC-81DF-69F80295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4F3CB-619C-46D3-A0F6-5549AEC7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17DE7-722F-4743-AE06-4F1279DD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7E7C1-5002-4FD4-92BF-0975B415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29524-C9CE-45A8-A787-548492E6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95EDF-824B-4D97-87CE-01F95714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E9968-EB49-42B7-9EDE-27438447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49CA2-93CF-4E74-A335-1D5C368A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65B5F-F5C1-4BB4-962C-0CDD31FE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EA492-3CD4-4557-A138-D3995E31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BC6-D03E-4D84-AB4D-F9A10A72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AE0D5-C679-40B2-B4EF-68EF25BA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9933A-7636-49E4-8999-B0E6715B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27D0C-D932-4901-A0DA-99ADA542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A6239-0E62-4DE2-B7CF-D5EEA47D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EA433-3C45-4B11-943D-33CC6E73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3F06A-2496-4E5B-A094-79502B93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83EE7-24BC-496F-8C90-629111F2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E8FD3-1011-428C-9FC1-A2B24A90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ED4FF-46B3-4F82-98CF-D6023567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F979-C97C-4EE5-A20A-81A719F9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02C6-2D12-4C6D-ABDA-51DAAD2D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2BBFB-05FE-4631-8902-62AC75CE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73407-B1C9-4B16-8B05-A6C9B38C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1D899-6A20-4960-B957-EAE41DD0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D899A-EB8A-483C-A3F1-89572FF2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17A8C-2F63-414F-9703-80DBFDCF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19B88C-2464-4188-A095-6233D47B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A53AA-8E8E-4869-BD8B-020264DA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3188F-4A0F-413C-B6C9-D6D135F3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6C646-0557-4B60-BC14-82DAC6AE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A6C33-A810-421F-89BB-D696D05E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9E7-AB4E-4BE9-AF08-9B02FC91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FE8CE-B29F-4016-8215-67A4048E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2A880-9258-48D7-9FC6-49A25F74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476AB-5FF5-44DC-894E-C1505275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EE02C-B6A6-4C76-9E17-8A9C2B2F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73E38-1884-4936-BFC8-08B11090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744FC-10A1-4995-85BE-6877DECC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3E996-782E-4D25-9F7A-67E35DC8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62D7C-A20A-4A50-BDC8-C103D8C8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20992-0AB0-4E56-971F-BEA77BCE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16998-1AA0-4421-9D80-CF3E7204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562-6DDF-4DE8-AEC6-E7115AB8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76D85-A918-4835-A02F-750F1B9F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FCD42-D74B-4F8F-946C-FED67FD9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C753F-F8C3-4C83-897D-D236CD7C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04DB6-6BD8-4F09-A88B-36704389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F8209-6C09-497B-9BEF-0B3279BF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24772-C491-41E0-BC2E-5D438146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34B3E-6342-476D-8E2B-A6F3DCB2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298EC-EBB1-4F7D-B17D-46003641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0FF1B-97CC-4A77-A15C-948FD495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2622B-94F0-4AEF-830D-D985091D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9A80-F004-47A3-BF15-B7531C55E9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7405-D7AF-43CE-A738-4151FEC7F0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F801-B5BE-4EFD-9C36-5C56E3BDD8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F002-562B-449C-9F28-FDED305BF4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2A77-B3A4-4BD9-A81D-8BCF948DAC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F65F1-2049-49A2-A5C7-00176872D0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E0A8-779F-44D2-8619-8754B8790C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1C0F-BEF9-4630-B851-80821B1656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D93D-A8A3-4243-AA8F-A552873A3B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90A8-7B88-4E36-8A9D-2AFDD68875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4457-9A9D-4C54-B9C6-C327C1CC41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EDA8-23BB-4DBC-A0F7-D87A7B440A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EAAB-509E-49F1-B2A7-693D6FECD5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0BCA-54A4-43F6-9990-C729F39C19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F2A6-23DC-4573-9297-29223AA880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942E-4A6D-403F-9BFF-7929683BDA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EDED-B47D-4983-B534-287A3C7289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1EF6-BE95-421F-9A00-5985DCCDBD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BAC0-0B42-4A32-BD0A-F8CB3597AE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2095-DA8A-47C7-9B52-F62A9BBCB6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7608-38B3-44AC-91A1-567D61466C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69B2-CDC8-4B17-A7EF-26957D1354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F0F3-FC97-4F8C-A3FE-23CB0F8DAC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6F56-AFBD-409C-AD2C-80921C4124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6F77-BF1A-43C0-914D-B609C86195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0E00-50CC-4E15-A47A-608A4BA9CB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2E5D-3884-4EBD-BF6D-50139F8B4E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6363-4DF4-47B1-B64B-D5B2CA040D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FB17-E4D9-405E-8CEE-15A9A7A6FC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59BC-0691-40C3-8622-691C8C989A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3CBC-FF46-4298-A24D-F4FE0F161F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F11D-0B04-4A89-A04C-821BE0FA24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917A-82ED-4DAF-BBCF-197845D3AE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6122-4025-4B22-805F-523614849C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D67C-BDAE-4D1F-A826-89851E0824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C51E-4363-4BC1-B12B-8206160453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8DED-C79B-47B0-B03F-299D29AB2A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200F-1176-4A4B-BCF3-3B2B18FAA5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6BD1-AE4E-4047-B835-1AF325C8BB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205C-B20F-46F9-92A9-1D45312CD1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4C1F-688E-478D-AED5-D24ED160B6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82FA-8B26-4FD9-AA20-BBB912A2E4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533680" y="3124080"/>
            <a:ext cx="40766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71280" y="828720"/>
            <a:ext cx="9001440" cy="52005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5421240" y="19303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8028000" y="1989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3492360" y="2708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804000" y="2708280"/>
            <a:ext cx="79236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3132000" y="3068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6516720" y="3068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3635280" y="3429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7093080" y="3429000"/>
            <a:ext cx="574560" cy="318960"/>
          </a:xfrm>
          <a:prstGeom prst="rect">
            <a:avLst/>
          </a:prstGeom>
          <a:ln w="0">
            <a:noFill/>
          </a:ln>
        </p:spPr>
      </p:pic>
      <p:grpSp>
        <p:nvGrpSpPr>
          <p:cNvPr id="1015" name="组合 6156"/>
          <p:cNvGrpSpPr/>
          <p:nvPr/>
        </p:nvGrpSpPr>
        <p:grpSpPr>
          <a:xfrm>
            <a:off x="1405080" y="5157720"/>
            <a:ext cx="2662200" cy="647640"/>
            <a:chOff x="1405080" y="5157720"/>
            <a:chExt cx="2662200" cy="647640"/>
          </a:xfrm>
        </p:grpSpPr>
        <p:pic>
          <p:nvPicPr>
            <p:cNvPr id="1016" name="Picture 1" descr=""/>
            <p:cNvPicPr/>
            <p:nvPr/>
          </p:nvPicPr>
          <p:blipFill>
            <a:blip r:embed="rId10"/>
            <a:stretch/>
          </p:blipFill>
          <p:spPr>
            <a:xfrm>
              <a:off x="2484360" y="5157720"/>
              <a:ext cx="158292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Picture 1" descr=""/>
            <p:cNvPicPr/>
            <p:nvPr/>
          </p:nvPicPr>
          <p:blipFill>
            <a:blip r:embed="rId11"/>
            <a:stretch/>
          </p:blipFill>
          <p:spPr>
            <a:xfrm>
              <a:off x="1405080" y="5229360"/>
              <a:ext cx="151128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8" name="组合 6159"/>
          <p:cNvGrpSpPr/>
          <p:nvPr/>
        </p:nvGrpSpPr>
        <p:grpSpPr>
          <a:xfrm>
            <a:off x="5508720" y="5114880"/>
            <a:ext cx="2232000" cy="690480"/>
            <a:chOff x="5508720" y="5114880"/>
            <a:chExt cx="2232000" cy="690480"/>
          </a:xfrm>
        </p:grpSpPr>
        <p:pic>
          <p:nvPicPr>
            <p:cNvPr id="1019" name="Picture 1" descr=""/>
            <p:cNvPicPr/>
            <p:nvPr/>
          </p:nvPicPr>
          <p:blipFill>
            <a:blip r:embed="rId12"/>
            <a:stretch/>
          </p:blipFill>
          <p:spPr>
            <a:xfrm>
              <a:off x="5508720" y="5114880"/>
              <a:ext cx="1439640" cy="69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0" name="Picture 1" descr=""/>
            <p:cNvPicPr/>
            <p:nvPr/>
          </p:nvPicPr>
          <p:blipFill>
            <a:blip r:embed="rId13"/>
            <a:stretch/>
          </p:blipFill>
          <p:spPr>
            <a:xfrm>
              <a:off x="6659640" y="5257800"/>
              <a:ext cx="1081080" cy="5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147600" y="1581120"/>
            <a:ext cx="8848800" cy="36957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1692360" y="3068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3851280" y="3429000"/>
            <a:ext cx="649440" cy="3189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5940360" y="3068640"/>
            <a:ext cx="649440" cy="318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8317080" y="30402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6"/>
          <a:stretch/>
        </p:blipFill>
        <p:spPr>
          <a:xfrm>
            <a:off x="1547640" y="4797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7"/>
          <a:stretch/>
        </p:blipFill>
        <p:spPr>
          <a:xfrm>
            <a:off x="3851280" y="4797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8"/>
          <a:stretch/>
        </p:blipFill>
        <p:spPr>
          <a:xfrm>
            <a:off x="5910120" y="4797360"/>
            <a:ext cx="390600" cy="319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9"/>
          <a:stretch/>
        </p:blipFill>
        <p:spPr>
          <a:xfrm>
            <a:off x="7885080" y="4797360"/>
            <a:ext cx="3906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309600" y="2162160"/>
            <a:ext cx="8524800" cy="25336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3627360" y="2963880"/>
            <a:ext cx="28728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9:55:24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